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B47-996D-4124-A37B-2D2B1ACC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F43-D141-463B-B1FB-450933E7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F31-FAEB-40E3-9E74-16E25270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68A-50C0-424A-AF9F-72765CCB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413-D3AC-4FD2-A339-7F7A335F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447-9922-40B5-9BB0-B215A88E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C5D-69B3-42EE-B25E-16172F4E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99E-5657-42A5-B2C0-3877592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5B3-DE15-4419-9D2C-DD3F730D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E39-5E7F-46D9-873D-0E3E8454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2C4-CA29-46C9-AE2D-C5924E2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864-EA15-4BF3-ADED-EFC9AF0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FFA1-295C-4809-BBC4-A89A06A3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by G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actoring by G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41520" y="2359440"/>
            <a:ext cx="7848360" cy="1282320"/>
            <a:chOff x="641520" y="2359440"/>
            <a:chExt cx="7848360" cy="1282320"/>
          </a:xfrm>
        </p:grpSpPr>
        <p:sp>
          <p:nvSpPr>
            <p:cNvPr id="163" name=""/>
            <p:cNvSpPr/>
            <p:nvPr/>
          </p:nvSpPr>
          <p:spPr>
            <a:xfrm>
              <a:off x="641520" y="2816280"/>
              <a:ext cx="784836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hen you factor out –1 as the first step, be sure to include it in all the other steps as well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1920" y="2359440"/>
              <a:ext cx="145944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4880" y="125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D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447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120" y="227808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12920" y="388764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0 =     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2720" y="281952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2720" y="4282920"/>
            <a:ext cx="40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re are no common factors other th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8840" y="541008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polynomial cannot be factored fur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4240" y="44197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17680" y="2776680"/>
            <a:ext cx="31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3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35448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     2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180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5480" y="20192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64080" y="2585880"/>
            <a:ext cx="18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16224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43200" y="2662200"/>
            <a:ext cx="318960" cy="1143000"/>
            <a:chOff x="2743200" y="2662200"/>
            <a:chExt cx="318960" cy="1143000"/>
          </a:xfrm>
        </p:grpSpPr>
        <p:sp>
          <p:nvSpPr>
            <p:cNvPr id="182" name=""/>
            <p:cNvSpPr/>
            <p:nvPr/>
          </p:nvSpPr>
          <p:spPr>
            <a:xfrm>
              <a:off x="2743200" y="2662200"/>
              <a:ext cx="318960" cy="9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09880" y="3586320"/>
              <a:ext cx="0" cy="218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757960" y="37274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59040" y="4229280"/>
            <a:ext cx="18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93880" y="476244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60680" y="5052960"/>
            <a:ext cx="1390680" cy="1438200"/>
            <a:chOff x="1660680" y="5052960"/>
            <a:chExt cx="1390680" cy="1438200"/>
          </a:xfrm>
        </p:grpSpPr>
        <p:sp>
          <p:nvSpPr>
            <p:cNvPr id="188" name=""/>
            <p:cNvSpPr/>
            <p:nvPr/>
          </p:nvSpPr>
          <p:spPr>
            <a:xfrm flipV="1" rot="12028800">
              <a:off x="1928520" y="5209200"/>
              <a:ext cx="10263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493600">
              <a:off x="1815840" y="5345280"/>
              <a:ext cx="599400" cy="107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828720" y="5372280"/>
            <a:ext cx="2822040" cy="459720"/>
            <a:chOff x="828720" y="5372280"/>
            <a:chExt cx="2822040" cy="459720"/>
          </a:xfrm>
        </p:grpSpPr>
        <p:sp>
          <p:nvSpPr>
            <p:cNvPr id="191" name=""/>
            <p:cNvSpPr/>
            <p:nvPr/>
          </p:nvSpPr>
          <p:spPr>
            <a:xfrm>
              <a:off x="1768320" y="5372280"/>
              <a:ext cx="18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(5 +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8720" y="5372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47720" y="59054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73320" y="5905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95840" y="2629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07720" y="33908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5b and 9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s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95840" y="52959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95840" y="5753160"/>
            <a:ext cx="37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95840" y="3787920"/>
            <a:ext cx="42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erms as products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5840" y="45054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80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8120" y="220176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51520" y="2666880"/>
            <a:ext cx="40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51520" y="4191120"/>
            <a:ext cx="40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re are no common factors other th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50040" y="533412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polynomial cannot be factored fur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4240" y="43434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3160" y="2700360"/>
            <a:ext cx="25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0200" y="3278160"/>
            <a:ext cx="47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                 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180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3640" y="2166840"/>
            <a:ext cx="18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7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7400" y="259092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75040" y="260676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oth coefficients are negative. Factor out –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19560" y="3084480"/>
            <a:ext cx="318960" cy="1305000"/>
            <a:chOff x="3319560" y="3084480"/>
            <a:chExt cx="318960" cy="1305000"/>
          </a:xfrm>
        </p:grpSpPr>
        <p:sp>
          <p:nvSpPr>
            <p:cNvPr id="216" name=""/>
            <p:cNvSpPr/>
            <p:nvPr/>
          </p:nvSpPr>
          <p:spPr>
            <a:xfrm>
              <a:off x="3319560" y="3084480"/>
              <a:ext cx="318960" cy="9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86240" y="40082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775040" y="35053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240" y="426708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18y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and 7y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s y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3124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2880" y="3581280"/>
            <a:ext cx="27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124080"/>
            <a:ext cx="0" cy="175284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76840" y="3089160"/>
            <a:ext cx="271440" cy="1290240"/>
            <a:chOff x="3876840" y="3089160"/>
            <a:chExt cx="271440" cy="1290240"/>
          </a:xfrm>
        </p:grpSpPr>
        <p:sp>
          <p:nvSpPr>
            <p:cNvPr id="225" name=""/>
            <p:cNvSpPr/>
            <p:nvPr/>
          </p:nvSpPr>
          <p:spPr>
            <a:xfrm>
              <a:off x="3876840" y="3089160"/>
              <a:ext cx="271440" cy="91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18680" y="4002480"/>
              <a:ext cx="0" cy="376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775040" y="480060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each term as a product using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75040" y="557856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5480" y="49528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[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7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0960" y="548640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[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7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2160" y="6014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1800" y="14479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19810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905200" y="2630520"/>
            <a:ext cx="304560" cy="1331640"/>
            <a:chOff x="2905200" y="2630520"/>
            <a:chExt cx="304560" cy="1331640"/>
          </a:xfrm>
        </p:grpSpPr>
        <p:sp>
          <p:nvSpPr>
            <p:cNvPr id="236" name=""/>
            <p:cNvSpPr/>
            <p:nvPr/>
          </p:nvSpPr>
          <p:spPr>
            <a:xfrm>
              <a:off x="2905200" y="2630520"/>
              <a:ext cx="304560" cy="1079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50640" y="3688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54240" y="2602080"/>
            <a:ext cx="333000" cy="1360080"/>
            <a:chOff x="1254240" y="2602080"/>
            <a:chExt cx="333000" cy="1360080"/>
          </a:xfrm>
        </p:grpSpPr>
        <p:sp>
          <p:nvSpPr>
            <p:cNvPr id="239" name=""/>
            <p:cNvSpPr/>
            <p:nvPr/>
          </p:nvSpPr>
          <p:spPr>
            <a:xfrm>
              <a:off x="1254240" y="2602080"/>
              <a:ext cx="333000" cy="1102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13360" y="3682800"/>
              <a:ext cx="0" cy="27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419640" y="2629080"/>
            <a:ext cx="333000" cy="1333080"/>
            <a:chOff x="3419640" y="2629080"/>
            <a:chExt cx="333000" cy="1333080"/>
          </a:xfrm>
        </p:grpSpPr>
        <p:sp>
          <p:nvSpPr>
            <p:cNvPr id="242" name=""/>
            <p:cNvSpPr/>
            <p:nvPr/>
          </p:nvSpPr>
          <p:spPr>
            <a:xfrm>
              <a:off x="3419640" y="2629080"/>
              <a:ext cx="333000" cy="108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8760" y="3688560"/>
              <a:ext cx="0" cy="273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62080" y="2536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28954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0920" y="3276720"/>
            <a:ext cx="27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1640" y="3886200"/>
            <a:ext cx="27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0040" y="426708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8240" y="483408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0440" y="54864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320840" y="5278680"/>
            <a:ext cx="2584800" cy="1247040"/>
            <a:chOff x="1320840" y="5278680"/>
            <a:chExt cx="2584800" cy="1247040"/>
          </a:xfrm>
        </p:grpSpPr>
        <p:sp>
          <p:nvSpPr>
            <p:cNvPr id="252" name=""/>
            <p:cNvSpPr/>
            <p:nvPr/>
          </p:nvSpPr>
          <p:spPr>
            <a:xfrm flipV="1" rot="11300400">
              <a:off x="1613520" y="5422320"/>
              <a:ext cx="1329120" cy="44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2" y="4997"/>
                  </a:moveTo>
                  <a:arcTo wR="10800" hR="10800" stAng="-8849871" swAng="8983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2" y="4997"/>
                  </a:moveTo>
                  <a:arcTo wR="10800" hR="10800" stAng="-8849871" swAng="8983741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1120000">
              <a:off x="1389240" y="5434920"/>
              <a:ext cx="803520" cy="10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 rot="11077200">
              <a:off x="1560240" y="5370480"/>
              <a:ext cx="2323800" cy="62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2" y="4997"/>
                  </a:moveTo>
                  <a:arcTo wR="10800" hR="10800" stAng="-8849871" swAng="73075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2" y="4997"/>
                  </a:moveTo>
                  <a:arcTo wR="10800" hR="10800" stAng="-8849871" swAng="7307599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989000" y="59436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05200" y="3886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 GCF of 8x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, 4x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and –2x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is 2x</a:t>
            </a:r>
            <a:r>
              <a:rPr b="0" i="1" lang="en-US" sz="20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05200" y="5486400"/>
            <a:ext cx="43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5200" y="594360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05200" y="4175280"/>
            <a:ext cx="42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Write terms as products using the GCF as a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05200" y="48610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05200" y="2925720"/>
            <a:ext cx="23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1752480"/>
            <a:ext cx="786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o write expressions for the length and width of a rectangle with area expressed by a polynomial, you need to write the polynomial as a product. You can write a polynomial as a product by factor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0400" y="1539720"/>
            <a:ext cx="77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rea of a court for the game squash is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actor this polynomial to find possible expressions for the dimensions of the squash cou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40280" y="321624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07840" y="3916440"/>
            <a:ext cx="22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2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45920" y="466416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5785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ossible expressions for the dimensions of the squash court are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m and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+ 2)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27720" y="329256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9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and 6x is 3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21240" y="3894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each term as a product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21240" y="468000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600200"/>
            <a:ext cx="82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…?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rea of the solar panel on another calculator is 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actor this polynomial to find possible expressions for the dimensions of the solar pa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40280" y="32767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7760" y="3976560"/>
            <a:ext cx="20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2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35840" y="4724280"/>
            <a:ext cx="15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27720" y="3352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2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and 4x is 2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21240" y="39546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each term as a product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21240" y="474012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5562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ossible expressions for the dimensions of the solar panel are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cm,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)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182880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metimes the GCF of terms is a binomial. This GCF is called a common binomial factor. You factor out a common binomial factor the same way you factor out a monomial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95280"/>
            <a:ext cx="8153280" cy="3962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1)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47120" y="22852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w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5200" y="28472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– 1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93360" y="400932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h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7680" y="182880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3560" y="45435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13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7440" y="3537000"/>
            <a:ext cx="62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nd the GCF of each pair of mo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0400" y="4019400"/>
            <a:ext cx="24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and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4240" y="4552920"/>
            <a:ext cx="28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1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nd 2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Factoring Out a Common Binom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58436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8120" y="21859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 5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)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x +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272736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x +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81400" y="3260880"/>
            <a:ext cx="20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253836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x +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03000" y="327492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x + 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4098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+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46324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52084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57754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4956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5213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1) = 1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10560" y="57913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b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Factoring Out a Common Binom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60400" y="194940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0760" y="248292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) + 9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7480" y="309240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) + 9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46880" y="289548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re are no comm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99800" y="365760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expression cannot be fac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15000" y="2057400"/>
            <a:ext cx="30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) – 5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3720" y="2743200"/>
            <a:ext cx="26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6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266688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s +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65320" y="33526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– 5)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03000" y="342432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s +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76920" y="4191120"/>
            <a:ext cx="33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 7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3) + 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57280" y="4724280"/>
            <a:ext cx="29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02280" y="5410080"/>
            <a:ext cx="31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9320" y="594360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2x + 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54421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2x + 1) = 1(2x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4080" y="60199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2x +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1752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286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4) –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8274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 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4)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37816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re are no comm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4880" y="336060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expression cannot be fac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80000" y="39625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.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–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) – 2(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73680" y="446256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– 2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04560" y="49957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79280" y="55292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43862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have a common binomial factor of (5x – 2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33520" y="552924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5x – 2)(5x – 2) = (5x – 2)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080" y="1752480"/>
            <a:ext cx="71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ou may be able to factor a polynomial by grouping. When a polynomial has four terms, you can make two groups and factor out the GCF from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: Factoring by Grou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60400" y="146376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7480" y="2438280"/>
            <a:ext cx="28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8800" y="3124080"/>
            <a:ext cx="31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0800" y="3962520"/>
            <a:ext cx="32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0800" y="487692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4920" y="57150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306396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 that have a common number or variable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39783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4876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3h – 2) is another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3h – 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 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60400" y="146376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40840" y="259092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40000" y="2129400"/>
            <a:ext cx="3409200" cy="2841840"/>
            <a:chOff x="1440000" y="2129400"/>
            <a:chExt cx="3409200" cy="2841840"/>
          </a:xfrm>
        </p:grpSpPr>
        <p:sp>
          <p:nvSpPr>
            <p:cNvPr id="344" name=""/>
            <p:cNvSpPr/>
            <p:nvPr/>
          </p:nvSpPr>
          <p:spPr>
            <a:xfrm flipV="1" rot="11535600">
              <a:off x="2149200" y="2396520"/>
              <a:ext cx="2624040" cy="99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944200">
              <a:off x="1651680" y="2351160"/>
              <a:ext cx="2131920" cy="244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578680" y="2035080"/>
            <a:ext cx="1981080" cy="1518120"/>
            <a:chOff x="2578680" y="2035080"/>
            <a:chExt cx="1981080" cy="1518120"/>
          </a:xfrm>
        </p:grpSpPr>
        <p:sp>
          <p:nvSpPr>
            <p:cNvPr id="347" name=""/>
            <p:cNvSpPr/>
            <p:nvPr/>
          </p:nvSpPr>
          <p:spPr>
            <a:xfrm flipV="1" rot="1092600">
              <a:off x="2694600" y="2282400"/>
              <a:ext cx="174924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 rot="5564400">
              <a:off x="2768760" y="2217600"/>
              <a:ext cx="932760" cy="90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12" y="6286"/>
                  </a:moveTo>
                  <a:arcTo wR="10800" hR="10800" stAng="-1482206" swAng="4107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12" y="6286"/>
                  </a:moveTo>
                  <a:arcTo wR="10800" hR="10800" stAng="-1482206" swAng="4107492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280120" y="2590920"/>
            <a:ext cx="38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505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) – 2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2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1960" y="4267080"/>
            <a:ext cx="35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80120" y="5029200"/>
            <a:ext cx="38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36640" y="4952880"/>
            <a:ext cx="3635280" cy="612000"/>
            <a:chOff x="836640" y="4952880"/>
            <a:chExt cx="3635280" cy="612000"/>
          </a:xfrm>
        </p:grpSpPr>
        <p:sp>
          <p:nvSpPr>
            <p:cNvPr id="354" name=""/>
            <p:cNvSpPr/>
            <p:nvPr/>
          </p:nvSpPr>
          <p:spPr>
            <a:xfrm>
              <a:off x="836640" y="5105160"/>
              <a:ext cx="34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–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–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62440" y="4952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: Factoring by Grou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60400" y="146376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65760" y="2319480"/>
            <a:ext cx="27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45040" y="2971800"/>
            <a:ext cx="30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16960" y="3657600"/>
            <a:ext cx="27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y – 3)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16960" y="457200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56840" y="5342040"/>
            <a:ext cx="20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65640" y="29718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65640" y="3597120"/>
            <a:ext cx="38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64200" y="453564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y – 3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65640" y="541008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y –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60400" y="146376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65760" y="2319480"/>
            <a:ext cx="27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59640" y="2971800"/>
            <a:ext cx="30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)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81120" y="36576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3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3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0160" y="4419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61000" y="3521160"/>
            <a:ext cx="34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61000" y="5273640"/>
            <a:ext cx="34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384560" y="5181480"/>
            <a:ext cx="3568320" cy="581400"/>
            <a:chOff x="1384560" y="5181480"/>
            <a:chExt cx="3568320" cy="581400"/>
          </a:xfrm>
        </p:grpSpPr>
        <p:sp>
          <p:nvSpPr>
            <p:cNvPr id="376" name=""/>
            <p:cNvSpPr/>
            <p:nvPr/>
          </p:nvSpPr>
          <p:spPr>
            <a:xfrm>
              <a:off x="1384560" y="5257800"/>
              <a:ext cx="277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–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3400" y="5181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60400" y="16160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2658960"/>
            <a:ext cx="47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3200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3809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 +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4)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4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46880" y="32004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546880" y="377352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46880" y="453564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3b + 4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46880" y="55548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3b +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905120"/>
            <a:ext cx="8382240" cy="12189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 polynomials by using the greatest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60400" y="16160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2658960"/>
            <a:ext cx="47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b + 4)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366920" y="2933640"/>
            <a:ext cx="3408840" cy="2841480"/>
            <a:chOff x="1366920" y="2933640"/>
            <a:chExt cx="3408840" cy="2841480"/>
          </a:xfrm>
        </p:grpSpPr>
        <p:sp>
          <p:nvSpPr>
            <p:cNvPr id="394" name=""/>
            <p:cNvSpPr/>
            <p:nvPr/>
          </p:nvSpPr>
          <p:spPr>
            <a:xfrm flipV="1" rot="11535600">
              <a:off x="2075760" y="3200760"/>
              <a:ext cx="2624040" cy="9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944200">
              <a:off x="1578600" y="3156120"/>
              <a:ext cx="2131920" cy="24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564280" y="2863800"/>
            <a:ext cx="1981080" cy="1518120"/>
            <a:chOff x="2564280" y="2863800"/>
            <a:chExt cx="1981080" cy="1518120"/>
          </a:xfrm>
        </p:grpSpPr>
        <p:sp>
          <p:nvSpPr>
            <p:cNvPr id="397" name=""/>
            <p:cNvSpPr/>
            <p:nvPr/>
          </p:nvSpPr>
          <p:spPr>
            <a:xfrm flipV="1" rot="1092600">
              <a:off x="2680200" y="3111120"/>
              <a:ext cx="174924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5564400">
              <a:off x="2754360" y="3046320"/>
              <a:ext cx="932760" cy="90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12" y="6286"/>
                  </a:moveTo>
                  <a:arcTo wR="10800" hR="10800" stAng="-1482206" swAng="4107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12" y="6286"/>
                  </a:moveTo>
                  <a:arcTo wR="10800" hR="10800" stAng="-1482206" swAng="4107492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04920" y="41911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)+ (4)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4)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4520" y="487692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+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34160" y="3240000"/>
            <a:ext cx="32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34160" y="5349960"/>
            <a:ext cx="31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548640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0400" y="16160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72920" y="2470320"/>
            <a:ext cx="25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98480" y="319896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84080" y="3824280"/>
            <a:ext cx="28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85880" y="45864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6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85080" y="5560920"/>
            <a:ext cx="21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33920" y="32004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33920" y="382572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33920" y="458784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r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6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33920" y="55627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r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+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60400" y="16160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57920" y="25891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)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)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39880" y="3198960"/>
            <a:ext cx="37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6) +1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1(6)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97960" y="38847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527480" y="4525920"/>
            <a:ext cx="3196800" cy="581400"/>
            <a:chOff x="1527480" y="4525920"/>
            <a:chExt cx="3196800" cy="581400"/>
          </a:xfrm>
        </p:grpSpPr>
        <p:sp>
          <p:nvSpPr>
            <p:cNvPr id="421" name=""/>
            <p:cNvSpPr/>
            <p:nvPr/>
          </p:nvSpPr>
          <p:spPr>
            <a:xfrm>
              <a:off x="1527480" y="4570560"/>
              <a:ext cx="25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+ 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14800" y="4525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34160" y="3124080"/>
            <a:ext cx="32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34160" y="4600440"/>
            <a:ext cx="31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74760" y="1676520"/>
            <a:ext cx="7854840" cy="3702960"/>
            <a:chOff x="374760" y="1676520"/>
            <a:chExt cx="7854840" cy="3702960"/>
          </a:xfrm>
        </p:grpSpPr>
        <p:sp>
          <p:nvSpPr>
            <p:cNvPr id="426" name=""/>
            <p:cNvSpPr/>
            <p:nvPr/>
          </p:nvSpPr>
          <p:spPr>
            <a:xfrm>
              <a:off x="380880" y="2138760"/>
              <a:ext cx="7848720" cy="3240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two quantities are opposites, their sum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 – 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4760" y="16765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80880" y="1403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ognizing opposite binomials can help you factor polynomials. The binomials (5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) are opposites. Notice (5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can be written as –1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7160" y="2776680"/>
            <a:ext cx="43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–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–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–5)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74480" y="338616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8160" y="41068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5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7160" y="4724280"/>
            <a:ext cx="32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, (5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= –1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5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89080" y="281952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istributive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686560" y="33526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86560" y="413064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mutative Property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: Factoring with Op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32560" y="155736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actor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8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76040" y="216216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8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54880" y="28954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18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35080" y="3657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6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6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14640" y="4419720"/>
            <a:ext cx="33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6) +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–1)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26800" y="51055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6) –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95320" y="581976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33920" y="29383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33920" y="374976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33920" y="51055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 (x – 6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33920" y="586728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x –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31760" y="449568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(6 – x) as –1(x –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94680" y="224316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30040" y="27432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(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21760" y="3429000"/>
            <a:ext cx="30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4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86920" y="4038480"/>
            <a:ext cx="35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+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–1)(3 –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68560" y="4800600"/>
            <a:ext cx="30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548640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3 –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278604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320040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81480" y="47401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 (3 – 2x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5562720"/>
            <a:ext cx="37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3 – 2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4114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(2x – 3) as –1(3 – 2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752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54080" y="23623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+ x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39640" y="29718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8) + (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+ x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86440" y="37339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)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–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52880" y="52578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8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51160" y="4572000"/>
            <a:ext cx="27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)+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y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57960" y="29718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oup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57960" y="374976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the GCF of each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457960" y="458784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(y – 1) is a comm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57960" y="527364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out (y – 1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1845000"/>
            <a:ext cx="81532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) +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 – 5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513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5028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3)(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53080" y="441972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– 3)(7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87000" y="3124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76080" y="2514600"/>
            <a:ext cx="16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 + 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1705680"/>
            <a:ext cx="84582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 by grouping.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+ 6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ocket is fired vertically into the air at 40 m/s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pression –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 gives th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cket’s height aft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conds. Factor thi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2513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5333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8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81960" y="3324240"/>
            <a:ext cx="21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2)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34320" y="27003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1)(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46280" y="1434960"/>
            <a:ext cx="786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all that the Distributive Property states tha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b + ac =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 +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istributive Property allows you to “factor” out the GCF of the terms in a polynomial to write a factored form of the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240" y="3568680"/>
            <a:ext cx="816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polynomial is in its factored form when it is written as a product of monomials and polynomials that cannot be factored further. The polynomial 2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is not fully factored because the terms in the parentheses have a common factor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4880" y="117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9000" y="19382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738440" y="2438280"/>
            <a:ext cx="318960" cy="1218960"/>
            <a:chOff x="1738440" y="2438280"/>
            <a:chExt cx="318960" cy="1218960"/>
          </a:xfrm>
        </p:grpSpPr>
        <p:sp>
          <p:nvSpPr>
            <p:cNvPr id="71" name=""/>
            <p:cNvSpPr/>
            <p:nvPr/>
          </p:nvSpPr>
          <p:spPr>
            <a:xfrm>
              <a:off x="1738440" y="2438280"/>
              <a:ext cx="318960" cy="867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5120" y="3301200"/>
              <a:ext cx="0" cy="35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02680" y="2452680"/>
            <a:ext cx="24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0680" y="283356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42040" y="3581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3800" y="25146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9560" y="3549600"/>
            <a:ext cx="37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2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and 4 is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2720" y="3962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erms as products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403848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5520" y="4605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47848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7480" y="5133960"/>
            <a:ext cx="1390680" cy="1438200"/>
            <a:chOff x="1527480" y="5133960"/>
            <a:chExt cx="1390680" cy="1438200"/>
          </a:xfrm>
        </p:grpSpPr>
        <p:sp>
          <p:nvSpPr>
            <p:cNvPr id="83" name=""/>
            <p:cNvSpPr/>
            <p:nvPr/>
          </p:nvSpPr>
          <p:spPr>
            <a:xfrm flipV="1" rot="12028800">
              <a:off x="1795320" y="5290200"/>
              <a:ext cx="10263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493600">
              <a:off x="1682640" y="5426280"/>
              <a:ext cx="599400" cy="107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755000" y="60199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20880" y="5897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5240" y="529740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2720" y="57150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2720" y="4648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880" y="2129400"/>
            <a:ext cx="7848720" cy="1283760"/>
            <a:chOff x="380880" y="2129400"/>
            <a:chExt cx="7848720" cy="1283760"/>
          </a:xfrm>
        </p:grpSpPr>
        <p:sp>
          <p:nvSpPr>
            <p:cNvPr id="91" name=""/>
            <p:cNvSpPr/>
            <p:nvPr/>
          </p:nvSpPr>
          <p:spPr>
            <a:xfrm>
              <a:off x="380880" y="258768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igning common factors can help you find the greatest common factor of two or more term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6920" y="2129400"/>
              <a:ext cx="220932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Writ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4880" y="117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82880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880" y="4191120"/>
            <a:ext cx="42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6280" y="4648320"/>
            <a:ext cx="21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4640" y="5326200"/>
            <a:ext cx="21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48080" y="5044680"/>
            <a:ext cx="2161080" cy="1109160"/>
            <a:chOff x="1648080" y="5044680"/>
            <a:chExt cx="2161080" cy="1109160"/>
          </a:xfrm>
        </p:grpSpPr>
        <p:sp>
          <p:nvSpPr>
            <p:cNvPr id="101" name=""/>
            <p:cNvSpPr/>
            <p:nvPr/>
          </p:nvSpPr>
          <p:spPr>
            <a:xfrm flipV="1" rot="11465400">
              <a:off x="1870560" y="5200920"/>
              <a:ext cx="1126800" cy="52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2" y="4997"/>
                  </a:moveTo>
                  <a:arcTo wR="10800" hR="10800" stAng="-8849871" swAng="8983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2" y="4997"/>
                  </a:moveTo>
                  <a:arcTo wR="10800" hR="10800" stAng="-8849871" swAng="8983741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493600">
              <a:off x="1765080" y="5270040"/>
              <a:ext cx="509760" cy="82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1242200">
              <a:off x="1800000" y="5167800"/>
              <a:ext cx="1969920" cy="73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2" y="4997"/>
                  </a:moveTo>
                  <a:arcTo wR="10800" hR="10800" stAng="-8849871" swAng="73075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2" y="4997"/>
                  </a:moveTo>
                  <a:arcTo wR="10800" hR="10800" stAng="-8849871" swAng="7307599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95360" y="586728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520" y="23623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8440" y="277488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8160" y="3124080"/>
            <a:ext cx="29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58840" y="2392200"/>
            <a:ext cx="318960" cy="1494000"/>
            <a:chOff x="1158840" y="2392200"/>
            <a:chExt cx="318960" cy="1494000"/>
          </a:xfrm>
        </p:grpSpPr>
        <p:sp>
          <p:nvSpPr>
            <p:cNvPr id="109" name=""/>
            <p:cNvSpPr/>
            <p:nvPr/>
          </p:nvSpPr>
          <p:spPr>
            <a:xfrm>
              <a:off x="1158840" y="2392200"/>
              <a:ext cx="318960" cy="1203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9920" y="35812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692360" y="2392200"/>
            <a:ext cx="318960" cy="1494000"/>
            <a:chOff x="1692360" y="2392200"/>
            <a:chExt cx="318960" cy="1494000"/>
          </a:xfrm>
        </p:grpSpPr>
        <p:sp>
          <p:nvSpPr>
            <p:cNvPr id="112" name=""/>
            <p:cNvSpPr/>
            <p:nvPr/>
          </p:nvSpPr>
          <p:spPr>
            <a:xfrm>
              <a:off x="1692360" y="2392200"/>
              <a:ext cx="318960" cy="1203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30600" y="35812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298680" y="2392200"/>
            <a:ext cx="319320" cy="1484640"/>
            <a:chOff x="3298680" y="2392200"/>
            <a:chExt cx="319320" cy="1484640"/>
          </a:xfrm>
        </p:grpSpPr>
        <p:sp>
          <p:nvSpPr>
            <p:cNvPr id="115" name=""/>
            <p:cNvSpPr/>
            <p:nvPr/>
          </p:nvSpPr>
          <p:spPr>
            <a:xfrm>
              <a:off x="3298680" y="2392200"/>
              <a:ext cx="319320" cy="1203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51320" y="35719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80680" y="3811680"/>
            <a:ext cx="26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62080" y="24019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56160" y="3124080"/>
            <a:ext cx="48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8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 4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 and 16x is 4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56160" y="380988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erms as products using the GCF as a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56160" y="45720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8680" y="533412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56160" y="571500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520" y="53053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5867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4880" y="117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320" y="18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7000" y="2319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30184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oth coefficients are negative. Factor out –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14400" y="2733840"/>
            <a:ext cx="318960" cy="1304280"/>
            <a:chOff x="1814400" y="2733840"/>
            <a:chExt cx="318960" cy="1304280"/>
          </a:xfrm>
        </p:grpSpPr>
        <p:sp>
          <p:nvSpPr>
            <p:cNvPr id="133" name=""/>
            <p:cNvSpPr/>
            <p:nvPr/>
          </p:nvSpPr>
          <p:spPr>
            <a:xfrm>
              <a:off x="1814400" y="2733840"/>
              <a:ext cx="318960" cy="928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365724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995640" y="2666880"/>
            <a:ext cx="318960" cy="1305000"/>
            <a:chOff x="3995640" y="2666880"/>
            <a:chExt cx="318960" cy="1305000"/>
          </a:xfrm>
        </p:grpSpPr>
        <p:sp>
          <p:nvSpPr>
            <p:cNvPr id="136" name=""/>
            <p:cNvSpPr/>
            <p:nvPr/>
          </p:nvSpPr>
          <p:spPr>
            <a:xfrm>
              <a:off x="3995640" y="2666880"/>
              <a:ext cx="318960" cy="9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62320" y="359064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181480" y="32004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ind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3809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GCF of 14x and 12x</a:t>
            </a:r>
            <a:r>
              <a:rPr b="0" i="1" lang="en-US" sz="2400" spc="-1" strike="noStrike" baseline="30000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is 2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800" y="4572000"/>
            <a:ext cx="27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[7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720" y="5257800"/>
            <a:ext cx="21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[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7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5080" y="58672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7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46600" y="458784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each term as a product using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46600" y="5273640"/>
            <a:ext cx="43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Distributive Property to factor out the G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27520" y="2743200"/>
            <a:ext cx="28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7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0400" y="3124080"/>
            <a:ext cx="33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47760" y="396252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94160" y="4271400"/>
            <a:ext cx="1791360" cy="1397520"/>
            <a:chOff x="1694160" y="4271400"/>
            <a:chExt cx="1791360" cy="1397520"/>
          </a:xfrm>
        </p:grpSpPr>
        <p:sp>
          <p:nvSpPr>
            <p:cNvPr id="149" name=""/>
            <p:cNvSpPr/>
            <p:nvPr/>
          </p:nvSpPr>
          <p:spPr>
            <a:xfrm flipV="1" rot="11783400">
              <a:off x="1995480" y="4455360"/>
              <a:ext cx="1414800" cy="73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69" y="1909"/>
                  </a:moveTo>
                  <a:arcTo wR="10800" hR="10800" stAng="-7475456" swAng="7609326"/>
                  <a:lnTo>
                    <a:pt x="10800" y="10800"/>
                  </a:lnTo>
                  <a:close/>
                </a:path>
                <a:path fill="none" w="21600" h="21600">
                  <a:moveTo>
                    <a:pt x="4669" y="1909"/>
                  </a:moveTo>
                  <a:arcTo wR="10800" hR="10800" stAng="-7475456" swAng="7609326"/>
                </a:path>
              </a:pathLst>
            </a:custGeom>
            <a:noFill/>
            <a:ln w="1908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248200">
              <a:off x="1869120" y="4474440"/>
              <a:ext cx="824400" cy="107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2" y="119"/>
                  </a:moveTo>
                  <a:arcTo wR="10800" hR="10800" stAng="-4888154" swAng="2466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2" y="119"/>
                  </a:moveTo>
                  <a:arcTo wR="10800" hR="10800" stAng="-4888154" swAng="2466750"/>
                </a:path>
              </a:pathLst>
            </a:custGeom>
            <a:noFill/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819520"/>
            <a:ext cx="0" cy="17524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6640" y="696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74880" y="1174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Factoring by Us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371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 each polynomial. Check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6320" y="18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200" y="274320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7 +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382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7320" y="281952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to check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5053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product is the original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4290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–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1T19:36:46Z</dcterms:modified>
  <cp:revision>81</cp:revision>
  <dc:subject/>
  <dc:title>Slide 1</dc:title>
</cp:coreProperties>
</file>